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CFD-905F-40A4-95B0-8DFF1B95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9EF-8BD6-4D6F-AA1B-463500A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6A6-10D9-43C8-835C-81DF4AA3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53F-D75A-467E-98C2-FD492925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B72-F430-4428-8DF0-DC78B39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D6F-D6BB-4F6A-AE3D-A10EF012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743-8FEB-4E80-9675-CF87A4F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EDB-77DA-4AA9-B499-3048CD6A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C71-7C6D-4E41-82F7-A5914D0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35D-47CC-47C2-A066-177DC85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D09-C9D2-4F53-82AE-63E5540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A24-0AEB-4A65-A7E4-5311E8A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26783-518C-4278-9380-04EC77709EA1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907320"/>
            <a:ext cx="206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0400" y="6616800"/>
            <a:ext cx="24498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5:11Z</dcterms:modified>
  <cp:revision>9</cp:revision>
  <dc:subject/>
  <dc:title>PowerPoint Presentation</dc:title>
</cp:coreProperties>
</file>